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2E2-BEA0-46A8-8D14-B420AB2E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5C8-C8B1-4328-A0D4-3134A06C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3B4-6127-4B3D-807D-E422DEB0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782-44CF-4546-A0C1-CDA66741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323A-E00B-41EA-943B-FB648C75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0C76-9F1E-4367-8FE3-40CF3D75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8E80-47AF-4433-BDAB-51148715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F96F-84E7-4B87-92FB-84F80F82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3319-60F5-4DA8-B6D0-AB5D9958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D43C-F94B-473F-8386-65364B50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680C-3AA4-4B7F-908F-E22F57C5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19A-E070-4EAE-B2CA-09E923E7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9A50-6468-444D-835B-7E80F2F0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DB19-7089-4C55-8787-120C4BA1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D698-55FB-4AA9-80E6-325B7726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430B-7B1B-40BF-B968-09F9DAFD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299B-C610-47A7-ACDF-E884CDE4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7B6-0A06-4BB8-A40B-B5B2B2B2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CC9-DB50-42EA-B79B-D99A7BA3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ED4-D4B1-4202-BF73-14E81D0E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F32-0DDC-410D-90AD-B13B6FF5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245-B96F-424F-B6A6-F0E02630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424-0EE2-4CEC-B746-132A867E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EB4-F587-4938-8AB4-BEEFE751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7B8D-5EB4-41FF-8BA4-D19470B5FF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B022-D8CA-4CFE-A9B1-0F31C9D5BF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gcrv.com/whitecity/index.html" TargetMode="External"/><Relationship Id="rId3" Type="http://schemas.openxmlformats.org/officeDocument/2006/relationships/hyperlink" Target="http://www.bgcrv.com/whitecity/index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gcrv.com/forms/White%20City%202010-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gcrv.com/whitecity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Comic Sans MS"/>
              </a:rPr>
              <a:t>Alisa K. Holland</a:t>
            </a:r>
            <a:br>
              <a:rPr sz="2000"/>
            </a:br>
            <a:r>
              <a:rPr b="1" lang="en-US" sz="2000" spc="-1" strike="noStrike">
                <a:solidFill>
                  <a:srgbClr val="b9efee"/>
                </a:solidFill>
                <a:latin typeface="Comic Sans MS"/>
              </a:rPr>
              <a:t>ED 487</a:t>
            </a: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5760" y="1828800"/>
            <a:ext cx="6402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Non- Profit Community Organization in The Neighbor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oys &amp; Girls Club of White 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The Boys &amp; Girls Club of White City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Serves children ages 6-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District 9 provides bussing from White City Elementary, Mt. View Elementary, and White Mountain Middle school, and Eagle Point High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Open Daily throughout the school year Monday through Friday 2:00-6:3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Free with a 40 dollar membership fee and brief ori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register call 541-830-7623 or drop in at 3275 Ave. G in White City or visit their web site at: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Comic Sans MS"/>
                <a:hlinkClick r:id="rId3"/>
              </a:rPr>
              <a:t>www.bgcrv.com/whitecity/index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55357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160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Summer schedule is Monday – Friday 7:30 a.m.–6:30 p.m. - rates vary for summer membersh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Friday is Teen Night 6:30 p.m.–9:30 p.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Additional activities provided: hiking, biking, museums, libraries, an swimming pools, enhancing hands on learning experi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For a fee members can play a league organized sport: volleyball, tackle football, flag football, and basketb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ew the clubs calendar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Comic Sans MS"/>
                <a:hlinkClick r:id="rId2"/>
              </a:rPr>
              <a:t>http://www.bgcrv.com/forms/White%20City%202010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2011%20Calendar.pd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The Boys &amp; Girls Club mission Statement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Boys &amp; girls Club of the Rogue Valley works to provide year round positive fun and safe places and programs for all kids helping them to build self-esteem and develop skills necessary to make right choices, becoming responsible and productive citizens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 u="sng">
                <a:solidFill>
                  <a:srgbClr val="00ff99"/>
                </a:solidFill>
                <a:uFillTx/>
                <a:latin typeface="Comic Sans MS"/>
                <a:hlinkClick r:id="rId2"/>
              </a:rPr>
              <a:t>http://www.bgcrv.com/whitecity/index.htm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The Facility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A large building with a teen room, game room, arts &amp; crafts room, technology room: computers available, and leadership room – exploring careers, homework hel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Activities and programs provided focus on 5 core areas:  health, recreation, education, arts and character/leadership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Outdoors features a large grassy play field, basketball, volleyball, playground, and covered ar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Staff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Must pass a drug screen and  criminal background che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Must have a good start on both post-secondary education and work experienc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Volunteers wanted, High School students can earn school credit for volunteer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A Foster Grandma from the Foster Grandparent Program currently volunteers and helps with home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Additional Support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Second language support in the form of Spanis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USDA supper Meal provided from White City Elementary school ex: hoagie sandwich, apple, carrots, and mil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White City Program Director: Megan Serv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Find out more about the Boys &amp; Girls Club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begreat4kids.com/index.ph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2:02:47Z</dcterms:created>
  <dc:creator>aholland</dc:creator>
  <dc:description/>
  <dc:language>en-US</dc:language>
  <cp:lastModifiedBy>aholland</cp:lastModifiedBy>
  <dcterms:modified xsi:type="dcterms:W3CDTF">2011-02-05T01:31:26Z</dcterms:modified>
  <cp:revision>4</cp:revision>
  <dc:subject/>
  <dc:title>Alisa K. Holland ED 487 </dc:title>
</cp:coreProperties>
</file>